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move the slide</a:t>
            </a:r>
            <a:endParaRPr b="0" lang="en-US" sz="4200" spc="-1" strike="noStrike">
              <a:solidFill>
                <a:srgbClr val="66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869AF-5265-4745-ACAB-5AF4FA38C714}"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EAA5E-E321-4C0A-9768-24281AE8D39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υτο-πραξικόπημα (autogolpe) είναι το «πραξικόπημα του οποίου ηγείται ο ίδιος ο επικεφαλής της εκτελεστικής εξουσίας, προκειμένου να διευρύνει τον έλεγχο που ασκεί επί του πολιτικού συστήματος με αντισυνταγματικό τρόπ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82707-5F62-4A3D-AEC4-1E6CE7994673}"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ις στρατιωτικές δικτατορίες, την εξουσία έχει ο στρατός, ο οποίος κυβερνά συνήθως μέσω μιας χούντας, στην οποία συμμετέχουν οι επικεφαλής των όπλων.</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4FD5A-930C-4BC2-BDDF-9C8E94915CD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ρατιωτικό πραξικόπημα (military coup d'état) είναι η κατάληψη της πολιτικής εξουσίας από το σύνολο ή μέρος των ένοπλων δυνάμεων. Ο όρος φέρνει στο νου εικόνες βίαιης, συνωμοτικής και ανεπιθύμητης κατάληψης της εξουσίας παρά την αντίσταση των πολιτικών ηγετών. Στην πράξη, όμως, πολλά πραξικοπήματα είτε αντικατέστησαν το ένα στρατιωτικό καθεστώς με το άλλο, είτε συνοδεύτηκαν από περιορισμένες ή και μηδενικές απώλειες σε ανθρώπινες ζωές, ενώ κατά το μάλλον ή ήττον ήταν ευπρόσδεκτα για τις προηγούμενες ηγεσί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91F95-DACD-4568-AA3E-B84362C7B95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ένα θεοκρατικό σύστημα, όπως στο Ιράν, οι θρησκευτικοί ηγέτες ασκούν άμεσα την εξουσία.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89145-2794-4AAA-87FB-0CA896C31EC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εοκρατία (theocracy) σημαίνει διακυβέρνηση από τους θρησκευτικούς ηγέτε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αρχαίο Ισραήλ, για παράδειγμα, οι νόμοι του Θεού κηρύττονταν και εφαρμόζονταν από αγίου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Παρότι οι περισσότερες ισλαμικές χώρες διαχωρίζουν τη θρησκευτική από την πολιτική εξουσία, το καθεστώς που εγκαθιδρύθηκε στο Ιράν, μετά την ανατροπή του Shah το 1979, αποτελεί το πιο πρόσφατο παράδειγμα θεοκρατικής εξουσί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8BC84-8A3C-4819-BB14-E5807695504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πολυταρχική εξουσία (authoritarian rule) είναι ευρεία κατηγορία, με την οποία αναφερόμαστε σε κάθε είδος μη δημοκρατικού καθεστώτος. Ορισμένοι συγγραφείς χρησιμοποιούν τον όρο πιο στενά, για να διακρίνουν τα απολυταρχικά καθεστώτα από τα ολοκληρωτικά, τα οποία επιδίωκαν την απόλυτη διείσδυση στην κοινωνία, σε μια προσπάθεια -θεωρητική ή πραγματική- να τη μεταμορφώσου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46B75-099F-4491-82D2-C6BAB8B51A4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ένα δεσποτικό σύστημα, ένα μόνο πρόσωπο, που δεν οφείλει υπακοή σε κανένα θεσμό, κυβερνά μέσω του φόβου και των ανταμοιβών, βασιζόμενο σε μια προσωπική δύναμη ασφάλειας για να παραμένει στην εξουσί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3EE05-F9BE-4D1F-9B53-7E6EF6CAC0B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 μοναρχία ο κυβερνών βασιλιάς προέρχεται από μια βασιλική οικογένεια, της οποίας τα άλλα μέλη αναλαμβάνουν κρίσιμες πολιτικές και στρατιωτικές θέσεις.</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4EA94-4020-44C6-B4D2-C659531D388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ρωτογένεια (primogeniture) αναφέρεται στην αρχή της διαδοχής από το πρωτότοκο τέκνο - συνήθως τον πρωτότοκο γιο. Η μοναρχία που βασίζεται σε αυτό τον κανόνα διαδοχής διατρέχει τον κίνδυνο ο επόμενος ηγεμόνας να μην είναι ικανό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5B708-9BAA-403A-95E9-53540966E21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ορισμένα απολυταρχικά καθεστώτα η εξουσία ασκείται από ένα κόμμα που συχνά συνοδεύεται από έναν ισχυρό πρόεδρο.</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452A0-2F49-4BCF-B861-FEDD52914A9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ύμφωνα με τον ορισμό του Lenin, το κόμμα της εμπροσθοφυλακής (vanguard party) αποτελείται από επαναστάτες πλήρους απασχόλησης. Χάρη στο γεγονός ότι κατανοούν τη μαρξιστική σκέψη, μπορούν να δραπετεύσουν από την ιδεολογική, δογματική κατήχηση της παλαιάς τάξης και να εξυψώσουν τη συνείδηση των μαζών τόσο πριν όσο και μετά την επανάσταση. Χωρίς αυτή την καθοδήγηση, οι εργάτες αναπτύσσουν μόνο συνδικαλιστική συνείδησ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1F408-06F6-4F38-98EC-336248B65B9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νας πρόεδρος κυριαρχεί στην πολιτική σκηνή (και στα μέσα ενημέρωσης), κρατώντας αφοπλισμένους τους αντιπάλους του και περιθωριοποιώντας την αντιπολίτευση. Παρότι η εξουσία βρίσκεται στα χέρια του συγκεκριμένου ηγέτη, ασκείται μέσω του προεδρικού αξιώματο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19332D-6310-4BFD-B704-A3DF24D145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C073F-984E-45D0-8017-0B36B4F58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9A9890-0575-4083-A4F1-DB22F1807C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5C34BC-10A6-4322-957C-07EDA140B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5ABA8A-BAB6-4A6C-A930-022D9CEA23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7269A7-425F-4AD6-B4AB-FBD3582CB3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E128B8-4B48-4A77-92A6-C4FDC28C85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94DC3D-C1AC-4A8E-B40C-2AEC673DDD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02FC51-A3A6-461C-BD21-58DAEF08A5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448A5F-C686-473D-958A-125FF276A8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12A84-FC98-4673-9A1D-88809931E2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29D05-1E2D-4DB6-AF30-A8F3E531D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0FD121-4584-4147-8769-37EF1970E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FEA25E-9B2A-4FA5-9251-F66861FF5E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D2D027-64BA-4A19-9D78-C45D9CB4CC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249009-C61F-4073-8791-AF81BE0884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F5E3B2-0238-4E2C-825B-887952D757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81564-E66F-41D7-8648-ED03BC069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EB5A0-8C40-4BD7-A247-C442B9BCE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C5427-06FF-4582-B999-F46FD8129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74833-5B82-4EAE-9C9B-8285554DC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442E7-BC0B-401A-B41D-C99ABCBD5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3A7B5-DCE2-412D-A2B1-2B3FDABF3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DBA02-0AE7-41F4-9ECB-4090120023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7DBC0-B828-42B8-A0B6-F9A83BDC185D}"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2E108-C56D-4615-9C9B-DCB56A290D9E}"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800" spc="-1" strike="noStrike">
                <a:solidFill>
                  <a:srgbClr val="660033"/>
                </a:solidFill>
                <a:latin typeface="Times New Roman"/>
              </a:rPr>
              <a:t>Κεφάλαιο 6</a:t>
            </a:r>
            <a:endParaRPr b="0" lang="en-US" sz="4800" spc="-1" strike="noStrike">
              <a:solidFill>
                <a:srgbClr val="660033"/>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πολυταρχική εξουσί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Πρόεδροι</a:t>
            </a:r>
            <a:endParaRPr b="0" lang="en-US" sz="4200" spc="-1" strike="noStrike">
              <a:solidFill>
                <a:srgbClr val="660033"/>
              </a:solidFill>
              <a:latin typeface="Times New Roman"/>
            </a:endParaRPr>
          </a:p>
        </p:txBody>
      </p:sp>
      <p:sp>
        <p:nvSpPr>
          <p:cNvPr id="12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υτο-πραξικόπημα (autogolpe) είναι το «πραξικόπημα του οποίου ηγείται ο ίδιος ο επικεφαλής της εκτελεστικής εξουσίας, προκειμένου να διευρύνει τον έλεγχο που ασκεί επί του πολιτικού συστήματος με αντισυνταγματικό τρόπο».</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rcau, 1994</a:t>
            </a:r>
            <a:r>
              <a:rPr b="0" lang="el-G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Ένοπλες δυνάμεις</a:t>
            </a:r>
            <a:endParaRPr b="0" lang="en-US" sz="4200" spc="-1" strike="noStrike">
              <a:solidFill>
                <a:srgbClr val="660033"/>
              </a:solidFill>
              <a:latin typeface="Times New Roman"/>
            </a:endParaRPr>
          </a:p>
        </p:txBody>
      </p:sp>
      <p:sp>
        <p:nvSpPr>
          <p:cNvPr id="12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τις στρατιωτικές δικτατορίες, την εξουσία έχει ο στρατός, ο οποίος κυβερνά συνήθως μέσω μιας χούντας, στην οποία συμμετέχουν οι επικεφαλής των όπλω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Ένοπλες δυνάμεις</a:t>
            </a:r>
            <a:endParaRPr b="0" lang="en-US" sz="4200" spc="-1" strike="noStrike">
              <a:solidFill>
                <a:srgbClr val="660033"/>
              </a:solidFill>
              <a:latin typeface="Times New Roman"/>
            </a:endParaRPr>
          </a:p>
        </p:txBody>
      </p:sp>
      <p:sp>
        <p:nvSpPr>
          <p:cNvPr id="12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τρατιωτικό πραξικόπημα (military coup d'état) είναι η κατάληψη της πολιτικής εξουσίας από το σύνολο ή μέρος των ένοπλων δυνάμεων.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Θρησκευτικοί ηγέτες</a:t>
            </a:r>
            <a:endParaRPr b="0" lang="en-US" sz="4200" spc="-1" strike="noStrike">
              <a:solidFill>
                <a:srgbClr val="660033"/>
              </a:solidFill>
              <a:latin typeface="Times New Roman"/>
            </a:endParaRPr>
          </a:p>
        </p:txBody>
      </p:sp>
      <p:sp>
        <p:nvSpPr>
          <p:cNvPr id="12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πάνια μορφή διακυβέρνησης όπου οι θρησκευτικοί ηγέτες ασκούν άμεσα την εξουσία. Γνωστό επίσης ως θεοκρατί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Θρησκευτικοί ηγέτες</a:t>
            </a:r>
            <a:endParaRPr b="0" lang="en-US" sz="4200" spc="-1" strike="noStrike">
              <a:solidFill>
                <a:srgbClr val="660033"/>
              </a:solidFill>
              <a:latin typeface="Times New Roman"/>
            </a:endParaRPr>
          </a:p>
        </p:txBody>
      </p:sp>
      <p:sp>
        <p:nvSpPr>
          <p:cNvPr id="13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Θεοκρατία (theocracy) σημαίνει διακυβέρνηση από τους θρησκευτικούς ηγέτε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4 - TextBox"/>
          <p:cNvSpPr/>
          <p:nvPr/>
        </p:nvSpPr>
        <p:spPr>
          <a:xfrm>
            <a:off x="1219320" y="2328840"/>
            <a:ext cx="7010280" cy="1922760"/>
          </a:xfrm>
          <a:prstGeom prst="rect">
            <a:avLst/>
          </a:prstGeom>
          <a:noFill/>
          <a:ln w="9360">
            <a:solidFill>
              <a:srgbClr val="d3d31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Απαγορεύεται η αναδημοσίευση ή αναπαραγωγή του παρόντος έργου με οποιονδήποτε τρόπο χωρίς γραπτή άδεια του εκδότη, σύμφωνα με το Ν. 2121/1993 και τη Διεθνή Σύμβαση της Βέρνης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που έχει κυρωθεί με τον Ν. 100/1975)</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Η φύση της απολυταρχικής εξουσίας</a:t>
            </a:r>
            <a:endParaRPr b="0" lang="en-US" sz="3800" spc="-1" strike="noStrike">
              <a:solidFill>
                <a:srgbClr val="66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απολυταρχική εξουσία (authoritarian rule) είναι ευρεία κατηγορία, με την οποία αναφερόμαστε σε κάθε είδος μη δημοκρατικού καθεστώτο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Μορφές απολυταρχικής εξουσίας</a:t>
            </a:r>
            <a:endParaRPr b="0" lang="en-US" sz="3800" spc="-1" strike="noStrike">
              <a:solidFill>
                <a:srgbClr val="660033"/>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εσπότες</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ονάρχες</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ολιτικά κόμματα</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ρόεδροι</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Ένοπλες δυνάμεις</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Θρησκευτικοί ηγέτε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Δεσπότες</a:t>
            </a:r>
            <a:endParaRPr b="0" lang="en-US" sz="4200" spc="-1" strike="noStrike">
              <a:solidFill>
                <a:srgbClr val="660033"/>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Ένα μόνο πρόσωπο, που δεν οφείλει υπακοή σε κανένα θεσμό, κυβερνά μέσω του φόβου και των ανταμοιβών, βασιζόμενο σε μια προσωπική δύναμη ασφάλειας για να παραμένει στην εξουσί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Μονάρχες</a:t>
            </a:r>
            <a:endParaRPr b="0" lang="en-US" sz="4200" spc="-1" strike="noStrike">
              <a:solidFill>
                <a:srgbClr val="660033"/>
              </a:solidFill>
              <a:latin typeface="Times New Roman"/>
            </a:endParaRPr>
          </a:p>
        </p:txBody>
      </p:sp>
      <p:sp>
        <p:nvSpPr>
          <p:cNvPr id="11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κυβερνών βασιλιάς προέρχεται από μια βασιλική οικογένεια, της οποίας τα άλλα μέλη αναλαμβάνουν κρίσιμες πολιτικές και στρατιωτικές θέσει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Μονάρχες</a:t>
            </a:r>
            <a:endParaRPr b="0" lang="en-US" sz="4200" spc="-1" strike="noStrike">
              <a:solidFill>
                <a:srgbClr val="660033"/>
              </a:solidFill>
              <a:latin typeface="Times New Roman"/>
            </a:endParaRPr>
          </a:p>
        </p:txBody>
      </p:sp>
      <p:sp>
        <p:nvSpPr>
          <p:cNvPr id="11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πρωτογένεια (primogeniture) αναφέρεται στην αρχή της διαδοχής από το πρωτότοκο τέκνο - συνήθως τον πρωτότοκο γιο. Η μοναρχία που βασίζεται σε αυτό τον κανόνα διαδοχής διατρέχει τον κίνδυνο ο επόμενος ηγεμόνας να μην είναι ικανό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Πολιτικά κόμματα</a:t>
            </a:r>
            <a:endParaRPr b="0" lang="en-US" sz="4200" spc="-1" strike="noStrike">
              <a:solidFill>
                <a:srgbClr val="660033"/>
              </a:solidFill>
              <a:latin typeface="Times New Roman"/>
            </a:endParaRPr>
          </a:p>
        </p:txBody>
      </p:sp>
      <p:sp>
        <p:nvSpPr>
          <p:cNvPr id="11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εξουσία ασκείται από ένα κόμμα που συχνά συνοδεύεται από έναν ισχυρό πρόεδρο.</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Κομμουνιστικά κόμματα</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Άλλα κυβερνώντα κόμματα</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Πολιτικά κόμματα</a:t>
            </a:r>
            <a:endParaRPr b="0" lang="en-US" sz="4200" spc="-1" strike="noStrike">
              <a:solidFill>
                <a:srgbClr val="660033"/>
              </a:solidFill>
              <a:latin typeface="Times New Roman"/>
            </a:endParaRPr>
          </a:p>
        </p:txBody>
      </p:sp>
      <p:sp>
        <p:nvSpPr>
          <p:cNvPr id="11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ύμφωνα με τον ορισμό του Lenin, το κόμμα της εμπροσθοφυλακής (vanguard party) αποτελείται από επαναστάτες πλήρους απασχόλησης. Χάρη στο γεγονός ότι κατανοούν τη μαρξιστική σκέψη, μπορούν να δραπετεύσουν από την ιδεολογική, δογματική κατήχηση της παλαιάς τάξης και να εξυψώσουν τη συνείδηση των μαζών τόσο πριν όσο και μετά την επανάσταση. Χωρίς αυτή την καθοδήγηση, οι εργάτες αναπτύσσουν μόνο συνδικαλιστική συνείδηση.</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Πρόεδροι</a:t>
            </a:r>
            <a:endParaRPr b="0" lang="en-US" sz="4200" spc="-1" strike="noStrike">
              <a:solidFill>
                <a:srgbClr val="660033"/>
              </a:solidFill>
              <a:latin typeface="Times New Roman"/>
            </a:endParaRPr>
          </a:p>
        </p:txBody>
      </p:sp>
      <p:sp>
        <p:nvSpPr>
          <p:cNvPr id="12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Ένας πρόεδρος κυριαρχεί στην πολιτική σκηνή (και στα μέσα ενημέρωσης), κρατώντας αφοπλισμένους τους αντιπάλους του και περιθωριοποιώντας την αντιπολίτευση. Παρότι η εξουσία βρίσκεται στα χέρια του συγκεκριμένου ηγέτη, ασκείται μέσω του προεδρικού αξιώματο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2T05:19:58Z</dcterms:created>
  <dc:creator>pc</dc:creator>
  <dc:description/>
  <dc:language>en-US</dc:language>
  <cp:lastModifiedBy>EPIMELEIA</cp:lastModifiedBy>
  <dcterms:modified xsi:type="dcterms:W3CDTF">2013-09-23T09:02:36Z</dcterms:modified>
  <cp:revision>1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